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C9C8-E8A2-461E-A578-E8A5FEAD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0112-FB8C-4496-8C75-2BDAC9B9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4E8C-F5B9-4E29-8D79-76401CB9D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5DBD-84D6-4A05-8730-382C87DD6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D889-AF84-4B24-8108-E6FF02D6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ACF0-8B0C-4C2C-8C9F-3868749F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C4E6-0C42-478F-BB7F-515F983F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6289-C657-4DE6-A128-B2A537EE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EC4C-39E0-462A-A407-C2EB6AF5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858D-72EC-40C1-AE71-A149159A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F2B2-7833-47D5-A901-7DFFB207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CF18-BD6D-49BA-9131-1EA8A966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24E0-E33E-4AB2-A291-91323CFC13E4}" type="slidenum">
              <a:rPr b="0" lang="en-P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agram 11" descr=""/>
          <p:cNvPicPr/>
          <p:nvPr/>
        </p:nvPicPr>
        <p:blipFill>
          <a:blip r:embed="rId1"/>
          <a:stretch/>
        </p:blipFill>
        <p:spPr>
          <a:xfrm>
            <a:off x="450720" y="255600"/>
            <a:ext cx="808992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Rectangle 3" descr=""/>
          <p:cNvPicPr/>
          <p:nvPr/>
        </p:nvPicPr>
        <p:blipFill>
          <a:blip r:embed="rId1"/>
          <a:stretch/>
        </p:blipFill>
        <p:spPr>
          <a:xfrm>
            <a:off x="1712880" y="2779560"/>
            <a:ext cx="520560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3" descr=""/>
          <p:cNvPicPr/>
          <p:nvPr/>
        </p:nvPicPr>
        <p:blipFill>
          <a:blip r:embed="rId2"/>
          <a:stretch/>
        </p:blipFill>
        <p:spPr>
          <a:xfrm>
            <a:off x="66600" y="2249640"/>
            <a:ext cx="8937720" cy="345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ectangle 3" descr=""/>
          <p:cNvPicPr/>
          <p:nvPr/>
        </p:nvPicPr>
        <p:blipFill>
          <a:blip r:embed="rId1"/>
          <a:stretch/>
        </p:blipFill>
        <p:spPr>
          <a:xfrm>
            <a:off x="420840" y="1231920"/>
            <a:ext cx="865008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1T05:26:30Z</dcterms:created>
  <dc:creator>ESTER</dc:creator>
  <dc:description/>
  <dc:language>en-US</dc:language>
  <cp:lastModifiedBy>ESTER</cp:lastModifiedBy>
  <dcterms:modified xsi:type="dcterms:W3CDTF">2012-07-12T00:10:37Z</dcterms:modified>
  <cp:revision>7</cp:revision>
  <dc:subject/>
  <dc:title>Slide 1</dc:title>
</cp:coreProperties>
</file>